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8.png" ContentType="image/png"/>
  <Override PartName="/ppt/media/image3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45.png" ContentType="image/png"/>
  <Override PartName="/ppt/media/image35.png" ContentType="image/png"/>
  <Override PartName="/ppt/media/image32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3.png" ContentType="image/png"/>
  <Override PartName="/ppt/media/image49.jpeg" ContentType="image/jpeg"/>
  <Override PartName="/ppt/media/image46.jpeg" ContentType="image/jpeg"/>
  <Override PartName="/ppt/media/image51.jpeg" ContentType="image/jpeg"/>
  <Override PartName="/ppt/media/image31.jpeg" ContentType="image/jpeg"/>
  <Override PartName="/ppt/media/image41.png" ContentType="image/png"/>
  <Override PartName="/ppt/media/image53.png" ContentType="image/png"/>
  <Override PartName="/ppt/media/image30.jpeg" ContentType="image/jpeg"/>
  <Override PartName="/ppt/media/image13.jpeg" ContentType="image/jpeg"/>
  <Override PartName="/ppt/media/image44.png" ContentType="image/png"/>
  <Override PartName="/ppt/media/image40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2D0-5AF6-4D22-9BEA-6834F001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E82-211C-487D-8300-75E69FB8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B6C-3315-4E00-8817-3E5A22AD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1A6-C757-4DD0-BA60-2EF24BE2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CE04-CECC-436E-9659-A0F817DE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6CD0-9971-4763-9004-EAFF4C66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8834-C9DD-42CA-B109-D1ABAAC5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14D4-B000-4172-9BA7-73B3B73D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E056-58F3-4747-85E5-DBA4C9BB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53F8-0B53-42D5-9A60-D8D72498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5E09-E38D-49DD-A193-D1607C21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A60-2774-4543-8DE6-85583D63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278C-152C-4C41-8A84-3D919DDA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AFB1-0A60-4BA3-93C5-6314C80F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6FF6-904E-42B5-B3FA-49C3F9B6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EA76-432A-4212-920D-974E8B43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FB6D-5473-4B4A-837A-8C1DEC73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E22-83C7-4D1E-8A51-2A6F0A85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3A5-896B-4996-B723-1386046B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4CB-15DD-4BF0-AF89-3665AE87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636-32A4-4DC8-9BDE-84C959B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E27-90DC-429D-A662-01B4C6F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7D2-FA70-4976-997F-6D1A4556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249-E41A-4CB4-A22F-280F8BD5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800A-8C9A-4D3A-BBD4-358AF12CA21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EEEA-2A03-4823-A9DB-CF882510E65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снове вешти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835280" y="3357720"/>
            <a:ext cx="5545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3. наставна јединица (трећа недеља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ештина невербалне комун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879520" y="599760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Владимир Јањ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асив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бега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м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оштов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ристој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заинтересова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796000" y="826920"/>
            <a:ext cx="291636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92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ја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уг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треми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живљ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ос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ећ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вред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2" descr="http://t1.gstatic.com/images?q=tbn:ANd9GcS2MIlds4i2rchxqqUyGrEgITCBKjOdq_rSmBVN--OSJPiniRGwhCnA5aPjtQ"/>
          <p:cNvPicPr/>
          <p:nvPr/>
        </p:nvPicPr>
        <p:blipFill>
          <a:blip r:embed="rId1"/>
          <a:stretch/>
        </p:blipFill>
        <p:spPr>
          <a:xfrm>
            <a:off x="5724360" y="2997360"/>
            <a:ext cx="2735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миш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оват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ва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лик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пада визуелном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ипу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ушав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т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г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ле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сећањ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ес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 смишљ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струис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држа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аж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са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сантније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http://t3.gstatic.com/images?q=tbn:ANd9GcQoov8YXG9NafCWOYaKcrcuK96HWSLG3Bo2g4Z5FfoR1PwRPHfy5g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952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бмисивнос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ривом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ле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нутрашњ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ционалн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ијалог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”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ес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већеност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опственим емоциј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ноги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ултур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е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аз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штов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2" descr="http://t1.gstatic.com/images?q=tbn:ANd9GcSi5Yc6a7-jwiqrLlNe66Y2YV8jAOSTzlWyV1-Swumb9cwkCBeA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240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крет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вор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влачења пажње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вор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нтересовања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тње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начи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сећ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вук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сно замишљ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вук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2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Латералн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(“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Шарање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”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сн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вар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г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оба покушав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ђ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лаз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чај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хват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ж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Шар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шт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општав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верењ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”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 проверав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ико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руг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ш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Picture 2" descr="http://t2.gstatic.com/images?q=tbn:ANd9GcRz-HUfAyIacuo1PNUOvJQD6HEaMYwVea8q10wpujCnW8NXg-yr7A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иљ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уљ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рзну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ељ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ршунас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киљ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епт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иг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з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твар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2" descr="http://t2.gstatic.com/images?q=tbn:ANd9GcQI77yvNpxxhiiCrzY_y7HVNDQWm2f4J0KluWuwHKbyOuxydOWjCQ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http://t0.gstatic.com/images?q=tbn:ANd9GcQjc2LC34uxByvsM4vBaCeY40qc37PNNqkYv_jyEfmI07QrW71U"/>
          <p:cNvPicPr/>
          <p:nvPr/>
        </p:nvPicPr>
        <p:blipFill>
          <a:blip r:embed="rId1"/>
          <a:stretch/>
        </p:blipFill>
        <p:spPr>
          <a:xfrm>
            <a:off x="755640" y="1844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http://t3.gstatic.com/images?q=tbn:ANd9GcR5BDaNZMViwXq7om3ZI6-j8RRr6sroS12anNa1LqjCs71sL4NbDA"/>
          <p:cNvPicPr/>
          <p:nvPr/>
        </p:nvPicPr>
        <p:blipFill>
          <a:blip r:embed="rId2"/>
          <a:stretch/>
        </p:blipFill>
        <p:spPr>
          <a:xfrm>
            <a:off x="5219640" y="549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http://t0.gstatic.com/images?q=tbn:ANd9GcS-Ak4awl7L9Vx47DKxoPnZU_4OYGN5z_HyMp2Qu8YSkWoaS2rH"/>
          <p:cNvPicPr/>
          <p:nvPr/>
        </p:nvPicPr>
        <p:blipFill>
          <a:blip r:embed="rId3"/>
          <a:stretch/>
        </p:blipFill>
        <p:spPr>
          <a:xfrm>
            <a:off x="755640" y="429264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http://t3.gstatic.com/images?q=tbn:ANd9GcQ4sRbNWWs6MZoU_T5AwyBTm5i_dphEromlAKZiNCT8ufnxI6K0"/>
          <p:cNvPicPr/>
          <p:nvPr/>
        </p:nvPicPr>
        <p:blipFill>
          <a:blip r:embed="rId4"/>
          <a:stretch/>
        </p:blipFill>
        <p:spPr>
          <a:xfrm>
            <a:off x="5940360" y="4869000"/>
            <a:ext cx="2781360" cy="1647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t3.gstatic.com/images?q=tbn:ANd9GcQXMU-GNioH-QQJidiQf1aTLgaR04_hCFFBvUSGoSi3a7j4JRETPQ"/>
          <p:cNvPicPr/>
          <p:nvPr/>
        </p:nvPicPr>
        <p:blipFill>
          <a:blip r:embed="rId5"/>
          <a:stretch/>
        </p:blipFill>
        <p:spPr>
          <a:xfrm>
            <a:off x="4859280" y="2637000"/>
            <a:ext cx="3025800" cy="1944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2"/>
          <p:cNvSpPr/>
          <p:nvPr/>
        </p:nvSpPr>
        <p:spPr>
          <a:xfrm>
            <a:off x="1987200" y="83664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Е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по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ређеној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ри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кривај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ав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 указив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вар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љ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мањ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к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минант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задовољств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аљ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ријат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еда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http://t3.gstatic.com/images?q=tbn:ANd9GcROZYLJ3XuCaUq_ir4KfswBKJzW5le-eGWgOIJmxq5EmBWDOtDIEg"/>
          <p:cNvPicPr/>
          <p:nvPr/>
        </p:nvPicPr>
        <p:blipFill>
          <a:blip r:embed="rId1"/>
          <a:stretch/>
        </p:blipFill>
        <p:spPr>
          <a:xfrm>
            <a:off x="6227640" y="189000"/>
            <a:ext cx="214308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8" descr="http://t2.gstatic.com/images?q=tbn:ANd9GcSyStjQRxj4-5ygXcW-KhSHDqc2A33ahD8J3pWN6Dl_fIg_84Hf9A"/>
          <p:cNvPicPr/>
          <p:nvPr/>
        </p:nvPicPr>
        <p:blipFill>
          <a:blip r:embed="rId2"/>
          <a:stretch/>
        </p:blipFill>
        <p:spPr>
          <a:xfrm>
            <a:off x="6732720" y="436572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дигнут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зненађењ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зненађена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то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ижу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 делимич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ирег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тварањ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ривлаче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аж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ек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стављ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ит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из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жели 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авез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дговор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твореност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убмисивност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диз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једн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редак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гест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знач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л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игуран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 т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говориш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”..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http://t2.gstatic.com/images?q=tbn:ANd9GcSWTqhVtiYhtp6NWgWs5uXveEkWrDLTPMLcWoQjByaxnzyqvgZ0ng"/>
          <p:cNvPicPr/>
          <p:nvPr/>
        </p:nvPicPr>
        <p:blipFill>
          <a:blip r:embed="rId1"/>
          <a:stretch/>
        </p:blipFill>
        <p:spPr>
          <a:xfrm>
            <a:off x="5148360" y="692280"/>
            <a:ext cx="30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здигну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бринут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лакш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ес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рустр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исо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центр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циловањ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рз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р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л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познавањ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поздр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4" descr="http://t0.gstatic.com/images?q=tbn:ANd9GcSarMfwxQD3wpVI95VeoVhOLATolS-a65494NxbrF1EW_3hahZVow"/>
          <p:cNvPicPr/>
          <p:nvPr/>
        </p:nvPicPr>
        <p:blipFill>
          <a:blip r:embed="rId1"/>
          <a:stretch/>
        </p:blipFill>
        <p:spPr>
          <a:xfrm>
            <a:off x="6084720" y="765000"/>
            <a:ext cx="191484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знац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чествуј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ном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чин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ам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дупир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допуњуј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упротстављај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24000" y="203328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КСПРЕС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уг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важн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спект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жав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онал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рс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виш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шић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43)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ш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могућ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хиља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личит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8" descr="http://t2.gstatic.com/images?q=tbn:ANd9GcRVTHHNqzL-TYJHmLvuC1W43Q5aEtBAyml6TCjx_ZOGu-tqqoJD"/>
          <p:cNvPicPr/>
          <p:nvPr/>
        </p:nvPicPr>
        <p:blipFill>
          <a:blip r:embed="rId1"/>
          <a:stretch/>
        </p:blipFill>
        <p:spPr>
          <a:xfrm>
            <a:off x="5867280" y="333360"/>
            <a:ext cx="288144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http://t1.gstatic.com/images?q=tbn:ANd9GcQj2j_BQib9HKsM--ER12aCai3eTgU9GyUE-zEB2MJjP3q6qKLr"/>
          <p:cNvPicPr/>
          <p:nvPr/>
        </p:nvPicPr>
        <p:blipFill>
          <a:blip r:embed="rId2"/>
          <a:stretch/>
        </p:blipFill>
        <p:spPr>
          <a:xfrm>
            <a:off x="1332000" y="71280"/>
            <a:ext cx="295272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95280" y="1888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КСПРЕС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ЗИЧ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ћ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д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ал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а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не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т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ђе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интересова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133800" cy="408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ttp://t0.gstatic.com/images?q=tbn:ANd9GcQIas4iE0T6xiVLcyj3W9HyJmgaqI1HOmWJ1D7HCfteFuman6f0Sg"/>
          <p:cNvPicPr/>
          <p:nvPr/>
        </p:nvPicPr>
        <p:blipFill>
          <a:blip r:embed="rId2"/>
          <a:stretch/>
        </p:blipFill>
        <p:spPr>
          <a:xfrm>
            <a:off x="2340000" y="189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50760" y="2707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аж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7" name="Picture 2" descr="http://t1.gstatic.com/images?q=tbn:ANd9GcSTwWGJQT-gJRp4DKzH3u-p2vkUJhn4sI93dyFHaWmIZT700XEd"/>
          <p:cNvPicPr/>
          <p:nvPr/>
        </p:nvPicPr>
        <p:blipFill>
          <a:blip r:embed="rId1"/>
          <a:stretch/>
        </p:blipFill>
        <p:spPr>
          <a:xfrm>
            <a:off x="5724360" y="404640"/>
            <a:ext cx="2067120" cy="2210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t3.gstatic.com/images?q=tbn:ANd9GcRRR4oj7LW6PgwtBvpV8X9k96iUYBaAN1fHFamiziFN1X380NA2"/>
          <p:cNvPicPr/>
          <p:nvPr/>
        </p:nvPicPr>
        <p:blipFill>
          <a:blip r:embed="rId2"/>
          <a:stretch/>
        </p:blipFill>
        <p:spPr>
          <a:xfrm>
            <a:off x="1547640" y="333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t1.gstatic.com/images?q=tbn:ANd9GcT_vaUZdI4OUnfxZpWBJAEx2wOMEXV5VwV6I15LtlNkqO0dFFxUvQ"/>
          <p:cNvPicPr/>
          <p:nvPr/>
        </p:nvPicPr>
        <p:blipFill>
          <a:blip r:embed="rId3"/>
          <a:stretch/>
        </p:blipFill>
        <p:spPr>
          <a:xfrm>
            <a:off x="5003640" y="364500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1989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Ж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ав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наг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виш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више споро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спев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олик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реба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време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кочени 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асиметричан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скривљен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с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едни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дигнути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гло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сан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тал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лов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 што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раз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ном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тепену 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ојем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о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ин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2" descr="http://t1.gstatic.com/images?q=tbn:ANd9GcT_vaUZdI4OUnfxZpWBJAEx2wOMEXV5VwV6I15LtlNkqO0dFFxUvQ"/>
          <p:cNvPicPr/>
          <p:nvPr/>
        </p:nvPicPr>
        <p:blipFill>
          <a:blip r:embed="rId1"/>
          <a:stretch/>
        </p:blipFill>
        <p:spPr>
          <a:xfrm>
            <a:off x="6523200" y="512640"/>
            <a:ext cx="2152440" cy="212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t3.gstatic.com/images?q=tbn:ANd9GcQf_H4RQGrZkE__Rdky11Aegk3oOXRhvtw8gSMwOY8fVWyFJrQR"/>
          <p:cNvPicPr/>
          <p:nvPr/>
        </p:nvPicPr>
        <p:blipFill>
          <a:blip r:embed="rId2"/>
          <a:stretch/>
        </p:blipFill>
        <p:spPr>
          <a:xfrm>
            <a:off x="1835280" y="260280"/>
            <a:ext cx="2819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3640" y="1412640"/>
            <a:ext cx="856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тепе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у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 гас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вес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рем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клад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ој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метрич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вучени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дигнутим усн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г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тал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лов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ољни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лов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авља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рака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о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испод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есиц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 мал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ај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2" descr="http://t2.gstatic.com/images?q=tbn:ANd9GcS2--Vz3gDm6uEV474dh9AiwOJuGrI_ahGiBdGgAcXNZDqbbA-Hgw"/>
          <p:cNvPicPr/>
          <p:nvPr/>
        </p:nvPicPr>
        <p:blipFill>
          <a:blip r:embed="rId1"/>
          <a:stretch/>
        </p:blipFill>
        <p:spPr>
          <a:xfrm>
            <a:off x="5580000" y="549360"/>
            <a:ext cx="2087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тиснутих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са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к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у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ј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држав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б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ћ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ћ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миље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та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биј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иђа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успешних пословних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ао да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хоће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ажу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а знам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н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посл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, 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 н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уш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е д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кријете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 с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!”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2" descr="http://t1.gstatic.com/images?q=tbn:ANd9GcQKOA0S0sroroxxiCyf46Ekd_j5blD0rkFT-8wPmw1UlRXVWBzW8w"/>
          <p:cNvPicPr/>
          <p:nvPr/>
        </p:nvPicPr>
        <p:blipFill>
          <a:blip r:embed="rId2"/>
          <a:stretch/>
        </p:blipFill>
        <p:spPr>
          <a:xfrm>
            <a:off x="5651640" y="321300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://t2.gstatic.com/images?q=tbn:ANd9GcQo5Mw_fLzNnTGrgYaGSzAs9H3Rrk0ktOTZBnllDc0-ABtFDLCP"/>
          <p:cNvPicPr/>
          <p:nvPr/>
        </p:nvPicPr>
        <p:blipFill>
          <a:blip r:embed="rId3"/>
          <a:stretch/>
        </p:blipFill>
        <p:spPr>
          <a:xfrm>
            <a:off x="6012000" y="907920"/>
            <a:ext cx="228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2349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Искривљен 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ривљен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рактеристичан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падн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ет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ве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ерно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шаљ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д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рказа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1" name="Picture 2" descr="http://t0.gstatic.com/images?q=tbn:ANd9GcTXIeR6TdX_O3iPVrOqs0N3-tn-E4SCFTTwnJ4R3AMdxn7rhAoi"/>
          <p:cNvPicPr/>
          <p:nvPr/>
        </p:nvPicPr>
        <p:blipFill>
          <a:blip r:embed="rId2"/>
          <a:stretch/>
        </p:blipFill>
        <p:spPr>
          <a:xfrm>
            <a:off x="6948360" y="400536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t1.gstatic.com/images?q=tbn:ANd9GcRKC510y5ZySrVHQWrfWKGe4axqJ8Sg_ya2HPNDk70zgddVn8bzhQ"/>
          <p:cNvPicPr/>
          <p:nvPr/>
        </p:nvPicPr>
        <p:blipFill>
          <a:blip r:embed="rId3"/>
          <a:stretch/>
        </p:blipFill>
        <p:spPr>
          <a:xfrm>
            <a:off x="5076720" y="1052640"/>
            <a:ext cx="27622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747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смех искоса уз поглед навиш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ушкарц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уди очин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њ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дов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ск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варачк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пертоар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0" descr="http://t3.gstatic.com/images?q=tbn:ANd9GcSLmGlZYoHkRMHi4uImmzZ8lX-j-_h2I_cUvgD6DwBQj8N7rEOB"/>
          <p:cNvPicPr/>
          <p:nvPr/>
        </p:nvPicPr>
        <p:blipFill>
          <a:blip r:embed="rId2"/>
          <a:stretch/>
        </p:blipFill>
        <p:spPr>
          <a:xfrm>
            <a:off x="6372360" y="3357720"/>
            <a:ext cx="2016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И РУКАМ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5450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4046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ОВ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мски поздрав                               Потчињенос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минација                                   Једнакос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228760" cy="1685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2270160" cy="165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1332000" y="3716280"/>
            <a:ext cx="2733480" cy="203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5435640" y="3645000"/>
            <a:ext cx="2695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9933"/>
                </a:solidFill>
                <a:latin typeface="Book Antiqua"/>
              </a:rPr>
              <a:t>78%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е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13%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ни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лас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дик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9% 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адрж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nixon"/>
          <p:cNvPicPr/>
          <p:nvPr/>
        </p:nvPicPr>
        <p:blipFill>
          <a:blip r:embed="rId1"/>
          <a:stretch/>
        </p:blipFill>
        <p:spPr>
          <a:xfrm>
            <a:off x="1692360" y="3573360"/>
            <a:ext cx="2098440" cy="237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fk"/>
          <p:cNvPicPr/>
          <p:nvPr/>
        </p:nvPicPr>
        <p:blipFill>
          <a:blip r:embed="rId2"/>
          <a:stretch/>
        </p:blipFill>
        <p:spPr>
          <a:xfrm>
            <a:off x="4643280" y="3573360"/>
            <a:ext cx="20894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88440" indent="-291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ВОНИК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јављу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кциј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дређеног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надређеног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н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ада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ур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ес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е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Picture 2" descr="http://t3.gstatic.com/images?q=tbn:ANd9GcTmihuv0Tb3HYrk3dBoGqWC6b1Zpk35DlQOcDL1Hx939isiztbi"/>
          <p:cNvPicPr/>
          <p:nvPr/>
        </p:nvPicPr>
        <p:blipFill>
          <a:blip r:embed="rId1"/>
          <a:stretch/>
        </p:blipFill>
        <p:spPr>
          <a:xfrm>
            <a:off x="6443640" y="1916280"/>
            <a:ext cx="1873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6836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ЖАЊЕ РУКУ ИЗА ЛЕЂ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литичар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лицајц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ос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поузд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ћ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ит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еђа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почеће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те супериор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2228760" cy="31431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ПРУЖЕН  КАЖИПР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азива негативна осећ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 слушаоц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екршт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/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лушаоц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смер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кршт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мер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ник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7" name="Picture 4" descr="prekrizene ruke"/>
          <p:cNvPicPr/>
          <p:nvPr/>
        </p:nvPicPr>
        <p:blipFill>
          <a:blip r:embed="rId1"/>
          <a:stretch/>
        </p:blipFill>
        <p:spPr>
          <a:xfrm>
            <a:off x="3564000" y="907920"/>
            <a:ext cx="1925640" cy="223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prekrizene noge"/>
          <p:cNvPicPr/>
          <p:nvPr/>
        </p:nvPicPr>
        <p:blipFill>
          <a:blip r:embed="rId2"/>
          <a:stretch/>
        </p:blipFill>
        <p:spPr>
          <a:xfrm>
            <a:off x="3564000" y="4005360"/>
            <a:ext cx="1901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ашир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кренут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ем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аговорник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кривање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0" name="Picture 4" descr="nev komu"/>
          <p:cNvPicPr/>
          <p:nvPr/>
        </p:nvPicPr>
        <p:blipFill>
          <a:blip r:embed="rId1"/>
          <a:stretch/>
        </p:blipFill>
        <p:spPr>
          <a:xfrm>
            <a:off x="3564000" y="1916280"/>
            <a:ext cx="23032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дирив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ос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в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близ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ст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дмиц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ковратника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Једн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б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џеп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мах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ажипрсто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Picture 6" descr="kaziprst"/>
          <p:cNvPicPr/>
          <p:nvPr/>
        </p:nvPicPr>
        <p:blipFill>
          <a:blip r:embed="rId1"/>
          <a:stretch/>
        </p:blipFill>
        <p:spPr>
          <a:xfrm>
            <a:off x="3059280" y="3838680"/>
            <a:ext cx="25923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живљаваће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вас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а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соб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ој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ј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ијатељск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премн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н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срадњ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лед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сговорник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мешк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тврдн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им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лавом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к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руг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овор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казуј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твор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времен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тич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ржи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екршт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тран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мал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агн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апред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иближав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аговорник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аљеност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според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говорник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осторији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Интим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15 – 4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ружни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љубљен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Лич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45 – 12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јатељ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оцијал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1,2 – 3,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одав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радни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ознат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Јав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3,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ћој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руп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55640" y="2349360"/>
          <a:ext cx="7488360" cy="3660840"/>
        </p:xfrm>
        <a:graphic>
          <a:graphicData uri="http://schemas.openxmlformats.org/drawingml/2006/table">
            <a:tbl>
              <a:tblPr/>
              <a:tblGrid>
                <a:gridCol w="1959120"/>
                <a:gridCol w="2759040"/>
                <a:gridCol w="2770200"/>
              </a:tblGrid>
              <a:tr h="87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рактеристике комуник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Вербал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Невербал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ложе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Једна димензија (ре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ше димензија (став, глас.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Вр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врем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нтинуира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Јасноћ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етко је погрешна интерпрета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век је двосмисл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Учин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абиј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Ј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Нам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јчешће наме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есто ненаме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711720" y="1369440"/>
            <a:ext cx="78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лике између вербалне и невербал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5076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ав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есто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ж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даљ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ријент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952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спек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ели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силац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ЕЛИНА 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ак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л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јединачни аспе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а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умети в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екс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опште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663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моћн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ст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зив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ств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рол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ро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јања интерак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суд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нхронизацију 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788000" y="836640"/>
            <a:ext cx="3816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унк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форм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аз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аж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сов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ро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акциј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мин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ц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ее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ц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ткр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562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6978600" y="0"/>
            <a:ext cx="216540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бега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еж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м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искре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сигур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2124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57:55Z</dcterms:created>
  <dc:creator>DELL</dc:creator>
  <dc:description/>
  <dc:language>en-US</dc:language>
  <cp:lastModifiedBy>Slavica</cp:lastModifiedBy>
  <dcterms:modified xsi:type="dcterms:W3CDTF">2018-01-21T12:18:48Z</dcterms:modified>
  <cp:revision>58</cp:revision>
  <dc:subject/>
  <dc:title>Slide 1</dc:title>
</cp:coreProperties>
</file>